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C3F6-C529-4986-B7F2-A9958AE4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F42F-BC7F-4AFE-9DA0-4E30F38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FFF5-DE87-421B-B9D4-851EE0A3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DB38-EC25-4015-8731-54B4C45B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BF60-6104-45CA-8F54-761FCD4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F2C2-CE45-4C19-8F6C-9505DB1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06B9-54CF-4D8D-A53B-C78492A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71A4-2C87-4BE1-918E-207AB39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961C-72BF-4F2C-AE39-7A28EDF6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1838-1BE8-442F-A169-1D51854C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77F-AAAC-400A-87FF-E2282EA4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85F5-BC8A-43FC-A53A-518A881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495F-0561-42E4-AB6E-267A5A5E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7819-B16C-40AD-981E-02AA184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303E-B566-4273-9511-F07B300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FB4C-DC0C-4ABA-BD41-A988C96B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9FBC-5BC0-4DEA-AC25-F574A73F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B7F1-662F-41DC-A908-9641657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15F0-6A77-4626-AA30-17C4C7CD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31D9-4B2C-4760-A46C-131FD2A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240B-E8ED-49AA-B702-EBB0BB9C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25C5-0F95-469B-B99D-1581C09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7AF2-E0AC-48F3-9DAC-305B8DD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ADD2-50E3-4F77-8F87-82FDA80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ADB-F5BC-4CF2-A860-CF0C0473F0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1828-FC3E-43E8-83E1-90E182214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Chapter One</a:t>
            </a:r>
            <a:br>
              <a:rPr sz="7500"/>
            </a:br>
            <a:r>
              <a:rPr b="1" i="1" lang="en-US" sz="4000" spc="-1" strike="noStrike">
                <a:solidFill>
                  <a:srgbClr val="bae8ba"/>
                </a:solidFill>
                <a:latin typeface="Garamond"/>
              </a:rPr>
              <a:t>Functions and Applications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Lesson 1.1</a:t>
            </a:r>
            <a:br>
              <a:rPr sz="7500"/>
            </a:b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part one</a:t>
            </a:r>
            <a:endParaRPr b="1" lang="en-US" sz="75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Function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ationship where every value of x can only go to one value of 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Ways to check for a function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input-output match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tical lin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algebraically (solve for 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Is each a function?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= 3x +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x + 2y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= 2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10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= (2x – 4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 =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Is this a function?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8229240" cy="2667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Page 82</a:t>
            </a:r>
            <a:br>
              <a:rPr sz="7500"/>
            </a:br>
            <a:r>
              <a:rPr b="1" lang="en-US" sz="7500" spc="-1" strike="noStrike">
                <a:solidFill>
                  <a:srgbClr val="bae8ba"/>
                </a:solidFill>
                <a:latin typeface="Garamond"/>
              </a:rPr>
              <a:t>#1-9,13-23</a:t>
            </a:r>
            <a:endParaRPr b="1" lang="en-US" sz="75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8:36Z</dcterms:created>
  <dc:creator>jnewman</dc:creator>
  <dc:description/>
  <dc:language>en-US</dc:language>
  <cp:lastModifiedBy>abeason</cp:lastModifiedBy>
  <dcterms:modified xsi:type="dcterms:W3CDTF">2009-04-16T12:23:45Z</dcterms:modified>
  <cp:revision>4</cp:revision>
  <dc:subject/>
  <dc:title>Lesson 1.1 part one</dc:title>
</cp:coreProperties>
</file>